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02C-690F-4872-90D9-8F18EBCD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679-5A71-4CD7-BEE0-BB059D09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0F0-1F67-4FA9-BA34-CDD666EE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81B-5B51-4330-81EF-30EC9FB5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FCBA-41BD-4A57-848C-236A03E1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7F24-18A5-46E2-8D9E-485CFBF4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A5F3-4C55-4B1C-B79B-5CB2F0B4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C32B-A97A-40F8-8E76-085583C9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8536-469A-4C84-94F7-646644DC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1611-A239-42F2-B519-C993CF44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4DB0-D395-4B40-9AF2-BA246DC8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9F0-CAE6-4306-911F-0A920021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534A-01E4-4A0C-B04A-D0E9D12B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1D77-D9CA-41C0-8BC8-BD56177C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2BF5-6A83-4348-9A67-8C272502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2280-EE12-4F3E-9B01-37CBEC28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C224-32F6-4323-B108-C41C7078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3D25-F4DA-43AB-BCD9-0992A3F7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B01-5990-45EB-AC1C-BCAA6E0A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F80-3D58-4D62-8E62-9D8B2070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C08-9780-42E4-B5E6-CBCD0890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4D9-A524-4697-B7BA-8BB0868B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F5DB-DFE8-49C5-83CF-BEB76324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5A1-81C3-4588-9B1E-0291DA8F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A09F-B618-4B2A-A097-06E2101FCC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1F4C-DDB1-4AE2-8ACF-45076B050C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etworked Information Syste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ecur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8161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twork Physical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062080"/>
            <a:ext cx="891540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le server failure can severely affect network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 secu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cked in air-conditioned, alarmed room with barred windows, restricted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user access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nterruptible power supply (UPS) protects against blackouts, brownouts and voltage spi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ible fire fighting equi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cked floppy disk d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-936792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816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twork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-936792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905120"/>
            <a:ext cx="8077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names &amp;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sswords are not strong protection – they can be guessed, forgotten or sto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stics of good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ometric identification actually establishes the identity of a user.  Used in high-security environ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ometric identification is useless if you are trying to authenticate yourself on a server across the glo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58920" y="549360"/>
            <a:ext cx="719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etwork Security - Fire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-936792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905120"/>
            <a:ext cx="8077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 &amp; software combination filtering data through an internet connection into an organisation’s internal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of filters to examin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cking access to certain domain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nning certain protocols from accessing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s and phrases included in packets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ewalls use two separate NIC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816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etwork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-936792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05120"/>
            <a:ext cx="8077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lwar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rus protec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i – adwar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8161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89072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-9367920"/>
            <a:ext cx="91440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057400"/>
            <a:ext cx="655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kes data unreadable to unauthorised people even if a file is sto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d on sensitive files on networks (e.g. password lists and secret doc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b browsers use encryption to connect to a “Secure” SSL (Secure Socket Layers) 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people encrypt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P, for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2:13:48Z</dcterms:created>
  <dc:creator>kel</dc:creator>
  <dc:description/>
  <dc:language>en-US</dc:language>
  <cp:lastModifiedBy>Kelvin Baird</cp:lastModifiedBy>
  <dcterms:modified xsi:type="dcterms:W3CDTF">2007-01-05T02:00:32Z</dcterms:modified>
  <cp:revision>31</cp:revision>
  <dc:subject/>
  <dc:title>PowerPoint Presentation</dc:title>
</cp:coreProperties>
</file>